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8CD-B7D0-43B2-A2FF-C56B9DEC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3FD-2A65-4CC7-890E-CD8D6897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0D4-2D64-403B-AB67-8195230C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A9F-3A75-44F9-8B4B-00DD1F3C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7695-916A-423C-82E4-F7AA6FEA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7554-4245-4E66-8A51-C2ACA743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5327-D055-4052-AC6F-1A4AF324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EA82-E29F-45FF-AF6B-3EE47E93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7C0D-9550-4EE9-9C67-FF2425D2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4F6B-E1BC-4135-BF7B-18825882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6085-2D1D-4F46-A2BF-7F910676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005-BD1C-4DB7-984F-092ABD1A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1234-3124-4C0E-B343-F29C524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8DE3-54F6-4246-B78E-55C8EDB2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5529-4C72-4747-A880-10DD9CDA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CF60-9CCC-4DEE-A12A-8EFC020D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71EC-C112-4666-B177-9CA4488A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E12-1A8D-4094-81B4-2E60D75D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E9B-EAD1-45C4-95A0-77325DE1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053-6F36-42E8-97B8-39A21539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D31-1BB3-4993-8A6D-BC7AFEE7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47F-417D-440F-AF97-B76D84B0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702-1C22-44F6-A68A-77942DB6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944-6007-45D6-8132-DC9FA50B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0D2F-8EF8-43BC-97D0-719C7ED698A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4C3-56A1-4F9D-83D2-F966FE3C6D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Uvod u programski jezik PROLO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Upi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nterpreter pokušava da izvede upit koristeći činjenice i pravila iz baze zn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vije vrste odgov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Yes/No: parent(tom, bob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nifikacija/No: parent(X, bob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vi mogući odgovori se dobijaju sa ; dok ENTER prekida izvršavanj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882080" y="54864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-parent(Parent,abraha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Upiti, primjer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: Who is a grandparent of Jim? (using parent relationshi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vo nađemo Jimovog roditelja, neka je to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đemo roditelja od Y, neka je to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- parent (Y, jim) </a:t>
            </a:r>
            <a:r>
              <a:rPr b="0" lang="en-US" sz="2600" spc="-1" strike="noStrike" u="sng">
                <a:solidFill>
                  <a:srgbClr val="ff4600"/>
                </a:solidFill>
                <a:uFillTx/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ent  (X, 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: Who are Tom’s grandchild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: Are Ann and Pat sibling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okretanje progr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injenice i pravila se snimaju u jednu ili više datoteka i čine bazu zn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toteke se učitavaju u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ko se kasnije ove datoteke mijenjaju moraju se ponovo učita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piti se zadaju iza prompt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itavanj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ime_datoteke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omentari u PROLOG-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 vi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še lin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4600"/>
                </a:solidFill>
                <a:latin typeface="Arial"/>
              </a:rPr>
              <a:t>	</a:t>
            </a:r>
            <a:r>
              <a:rPr b="0" lang="sr-Latn-CS" sz="3000" spc="-1" strike="noStrike">
                <a:solidFill>
                  <a:srgbClr val="ff46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4600"/>
                </a:solidFill>
                <a:latin typeface="Arial"/>
              </a:rPr>
              <a:t>/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is is a 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another comment </a:t>
            </a:r>
            <a:r>
              <a:rPr b="0" lang="en-US" sz="3000" spc="-1" strike="noStrike">
                <a:solidFill>
                  <a:srgbClr val="ff4600"/>
                </a:solidFill>
                <a:latin typeface="Arial"/>
              </a:rPr>
              <a:t>*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jednoj lini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677240" y="388620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600"/>
                </a:solidFill>
                <a:latin typeface="Arial"/>
              </a:rPr>
              <a:t>%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lso a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OLOG sint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er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tomi su nizovi slova, cifara ili _ koji počinju sa malim slovom ili stringovi karaktera izmeđ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Brojev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gu da budu cijeli ili real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mjenlj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 stringovi slova, cifara ili _ koji po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inju sa velikim slovom ili 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trukture su oblika f(t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, ... t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 je atom i naziva se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funkt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... t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u ter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Liste se predstavljaju s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Head|Tail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LOG sint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last v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ženja atoma je cijeli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blast važenja promjenljive je klauzula u kojoj se promjenljiva nala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pecijalna promjenljiva 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jeri struk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(1, jan, 2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e(Day, jan, 2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LOG sintak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onjunkcija 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isjunkcija 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ći prioritet ima 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jer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:- Q , R ; S , T , U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:- (Q , R) ; (S , T , U)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10080" y="3733920"/>
            <a:ext cx="2225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:- Q ; 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:- 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:-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Backtracking, primjer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15240" y="1523880"/>
            <a:ext cx="1095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525680" y="32004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26400" y="430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>
            <a:off x="777600" y="36162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90512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769400" y="430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065040" y="4302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1920960" y="361620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236240" y="3844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846080" y="384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760120" y="3844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132440" cy="4343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7"/>
          <p:cNvSpPr/>
          <p:nvPr/>
        </p:nvSpPr>
        <p:spPr>
          <a:xfrm>
            <a:off x="5867280" y="3200400"/>
            <a:ext cx="76212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H="1">
            <a:off x="6248520" y="1219320"/>
            <a:ext cx="914400" cy="1904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5856120" y="87480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erna reprezentacija za n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stanciranu promjenlji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Backtracking i cut (!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 flipH="1">
            <a:off x="3885840" y="19810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49568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4495680" y="19810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344840" y="1692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412600" y="160020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:-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 flipH="1">
            <a:off x="3276360" y="2666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38862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3886200" y="2666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5490000" y="220968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:-Bl,!,B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3735000" y="2362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2285640" y="3048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l,!,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2361960" y="3352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29718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2971800" y="3352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4797360" y="3048120"/>
            <a:ext cx="23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iječe grane 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0"/>
          <p:cNvSpPr/>
          <p:nvPr/>
        </p:nvSpPr>
        <p:spPr>
          <a:xfrm>
            <a:off x="3657600" y="1828800"/>
            <a:ext cx="838080" cy="457200"/>
          </a:xfrm>
          <a:custGeom>
            <a:avLst/>
            <a:gdLst>
              <a:gd name="textAreaLeft" fmla="*/ 0 w 838080"/>
              <a:gd name="textAreaRight" fmla="*/ 838440 w 838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28" h="288">
                <a:moveTo>
                  <a:pt x="0" y="0"/>
                </a:moveTo>
                <a:cubicBezTo>
                  <a:pt x="76" y="96"/>
                  <a:pt x="152" y="192"/>
                  <a:pt x="240" y="240"/>
                </a:cubicBezTo>
                <a:cubicBezTo>
                  <a:pt x="328" y="288"/>
                  <a:pt x="428" y="288"/>
                  <a:pt x="528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615600" y="1219320"/>
            <a:ext cx="33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raženje nastavlja odav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ne usp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Backtracking i cut (!), primj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767520" y="1828800"/>
            <a:ext cx="10951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(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590920" y="1828800"/>
            <a:ext cx="457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-p(X),q(Y),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X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-p(X),!,q(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=a, Y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=a, Y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-!,p(X),q(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vo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in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stao je 1972. god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venstveno namijenjen za primjenu u 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kaziv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i teor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Ekspretni siste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LP (natural language proccess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Backtracking i cut (!), primjer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(2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2360" y="1219320"/>
          <a:ext cx="8815320" cy="1463400"/>
        </p:xfrm>
        <a:graphic>
          <a:graphicData uri="http://schemas.openxmlformats.org/drawingml/2006/table">
            <a:tbl>
              <a:tblPr/>
              <a:tblGrid>
                <a:gridCol w="2938680"/>
                <a:gridCol w="2938320"/>
                <a:gridCol w="293832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s(dr_fred, history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s(dr_fred, english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s(dr_fred, drama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s(dr_fiona, physic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 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s(alice, english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s(angus, english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s(amelia, drama).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s(alex, physics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1"/>
          <p:cNvSpPr/>
          <p:nvPr/>
        </p:nvSpPr>
        <p:spPr>
          <a:xfrm>
            <a:off x="4721400" y="-1465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737440" y="2780640"/>
            <a:ext cx="3646440" cy="33768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960" rIns="23796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?- teaches(dr_fred, Course), studies(Student, Course). </a:t>
            </a:r>
            <a:br>
              <a:rPr sz="6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691720" y="3565080"/>
            <a:ext cx="3747240" cy="33768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960" rIns="23796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?- teaches(dr_fred, Course), !, studies(Student, Course). </a:t>
            </a:r>
            <a:br>
              <a:rPr sz="6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697840" y="4388400"/>
            <a:ext cx="3735000" cy="24624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960" rIns="23796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?- teaches(dr_fred, Course), studies(Student, Course), !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697840" y="5164920"/>
            <a:ext cx="3735000" cy="24624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7960" rIns="23796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?- !, teaches(dr_fred, Course), studies(Student, Course)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kurzija u PROLOG-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avila u su kao funkcije u proceduralnim jezicima i mogu da budu rekurziv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jer: relacija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ances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baza rekurzije: </a:t>
            </a:r>
            <a:r>
              <a:rPr b="0" lang="pl-PL" sz="2600" spc="-1" strike="noStrike">
                <a:solidFill>
                  <a:srgbClr val="ff0000"/>
                </a:solidFill>
                <a:latin typeface="Arial"/>
              </a:rPr>
              <a:t>ancestor(X, Z) :- parent (X, Z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ekurzija: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ncestor (X, Z) :- parent (X, Y) , ancestor (Y, Z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Računanje upit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LOG počinje od cilja (backwa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rist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ći pravila, tekući cilj (koji se unifikuje sa glavom nekog pravila) zamjenjuje sa podciljevima koji su u tijelu pravila, sve dok novi podciljevi ne budu činjenice iz ba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OLOG vraća prvi odgovor koji zadovoljava cil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da tekućom granom ne može da dokaže cilj ili kada se pritisne ; PROLOG interpreter se vraća na prethodni čvor i pokušava sa nekim drugim pravil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imj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Ba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av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Cilj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cestor(tom, pat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vo navedeno pravilo se primjenjuje, unifikaci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X/tom} , {Z/pat}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pa je sada cilj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nt (tom, pat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Fails, backtr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90720" y="2362320"/>
            <a:ext cx="3733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88680" y="1981080"/>
            <a:ext cx="624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(pam, bob).  parent (tom, bob).  parent (tom, li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(bob, ann).   parent (bob, pat).   parent (pat, ji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42360" y="2997360"/>
            <a:ext cx="61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cestor (X, Z) :- parent (X, 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estor (X, Z) :- parent (X, Y) , ancestor (Y,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imj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rugo pravilo </a:t>
            </a:r>
            <a:r>
              <a:rPr b="1" lang="en-US" sz="2600" spc="-1" strike="noStrike">
                <a:solidFill>
                  <a:srgbClr val="e4df80"/>
                </a:solidFill>
                <a:latin typeface="Arial"/>
              </a:rPr>
              <a:t>ancestor (X, Z) :- parent (X, Y) , ancestor (Y, Z)</a:t>
            </a:r>
            <a:r>
              <a:rPr b="1" lang="sr-Latn-CS" sz="2600" spc="-1" strike="noStrike">
                <a:solidFill>
                  <a:srgbClr val="e4df80"/>
                </a:solidFill>
                <a:latin typeface="Arial"/>
              </a:rPr>
              <a:t>.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nifikaci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X/tom} , {Z/pat}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ovi cilj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nt (tom, Y) , ancestor(Y, pa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dciljevi se rješavaju redosl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edom kojim su navede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vi podcilj je činjenic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Y/bob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rugi podcilj j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cestor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a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sti koraci kao i za originalni cil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Redosl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j</a:t>
            </a: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ed ciljeva i klauz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 li postoji put izme</a:t>
            </a:r>
            <a:r>
              <a:rPr b="0" lang="sr-Latn-ME" sz="3000" spc="-1" strike="noStrike">
                <a:solidFill>
                  <a:srgbClr val="000000"/>
                </a:solidFill>
                <a:latin typeface="Arial"/>
              </a:rPr>
              <a:t>đu dva čvora u usmjerenom grafu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 li je ispravn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990720" y="2743200"/>
          <a:ext cx="617220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61722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"/>
          <p:cNvGraphicFramePr/>
          <p:nvPr/>
        </p:nvGraphicFramePr>
        <p:xfrm>
          <a:off x="990720" y="4378320"/>
          <a:ext cx="594360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378320"/>
                    <a:ext cx="59436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4"/>
          <p:cNvGraphicFramePr/>
          <p:nvPr/>
        </p:nvGraphicFramePr>
        <p:xfrm>
          <a:off x="7077240" y="1836720"/>
          <a:ext cx="157788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7240" y="1836720"/>
                    <a:ext cx="1577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Redosl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j</a:t>
            </a: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ed ciljeva i klauzula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(2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Object 3"/>
          <p:cNvGraphicFramePr/>
          <p:nvPr/>
        </p:nvGraphicFramePr>
        <p:xfrm>
          <a:off x="152280" y="2162160"/>
          <a:ext cx="8991720" cy="34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162160"/>
                    <a:ext cx="899172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Rekurzija, lis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Lista se predstavlja s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H|T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mplementirati sledeće predika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ar(Xs, 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dr(Xs, 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ons(X, Xs, 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,X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poj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s,Ys,Z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uzin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s,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Rekurzija, lis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mplementirati sledeće predik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oslednj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X,X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f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re,X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ik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,X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okr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Xs,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fi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ks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re,X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iks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s,X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sum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Xs,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(Xs,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x1,x2,...,xn]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n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li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y1,y2,...,yn]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va 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r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raj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,Sorted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Binarna stab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Binarno stablo u PROLOG-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j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7560" y="2230560"/>
            <a:ext cx="540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azno stab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(N,L,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: 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jevo podstab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esno podstab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733120" y="47242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(a, t(b, 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, t(c,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410840" y="4140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817560" y="524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036520" y="5165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968040" y="455616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1577880" y="455616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Uvod</a:t>
            </a: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-numeričko (simboličko) račun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jer: parent(tom, bob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arent je relacija između parametara: tom i b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ve zajedno se naziva rečenica ili klauzu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vaka klauzula predstavlja jednu činjenicu vezano za relaci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OLOG interpret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WI-prolog, razvijen na Swedish Institute of Computer Sc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5791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OLOG interpret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nterpreter može da učitava PROLOG datoteke ili da izvršava up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zlaz iz interpretera: hal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LOG datoteke obično imaju ekstenziju .p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Naredbe u PROLOG-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stoje tri kategorije komandi u PROLOG-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injenice (facts): rečenice koje su uvijek tačne i koje formiraju bazu zn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avila (rules): slična funkcijama iz proceduralnih jezika; imaju if/then strukt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piti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ies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: interpreter učitava upit i pristupa bazi znanja; startovanje progr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Činjen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injenice su komande u jednoj liniji sa tačkom na kra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432880" y="274320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ther(terach,abraham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le(tera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avil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avila se sastoje 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slovnog dijela ili tijela (desna stra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ključka ili glave (lijeva stra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eparat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- ima zn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enje 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684800" y="3886200"/>
            <a:ext cx="542340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ent(Parent,Child):-father(Parent,Chil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ent(Parent,Child):-mother(Parent,Chil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cle(Uncle,Person) :-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other(Uncle,Parent)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ent(Parent,Person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6633"/>
                </a:solidFill>
                <a:latin typeface="Garamond"/>
              </a:rPr>
              <a:t>Pravil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jenljive sa lijeve strane su kvantifikovane sa univerzalnim kvantifikato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omjenljiv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je su samo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 desne stra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vantifikovan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 egzistencijalnim kvantifikato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avila vs. Činjen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Jednim imenom klauz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injenice su uvijek tač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avila definišu uslove pod kojima je nešto tač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2:50:39Z</dcterms:created>
  <dc:creator>pedja</dc:creator>
  <dc:description/>
  <dc:language>en-US</dc:language>
  <cp:lastModifiedBy>Microsoft account</cp:lastModifiedBy>
  <dcterms:modified xsi:type="dcterms:W3CDTF">2022-11-16T13:04:05Z</dcterms:modified>
  <cp:revision>158</cp:revision>
  <dc:subject/>
  <dc:title>Uvod u programski jezik PROLOG</dc:title>
</cp:coreProperties>
</file>